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9BB-A3A6-41E4-A807-A25174F1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CBF-B48C-47F5-8ECA-C3053281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18B-2109-42D4-B44D-72F789DC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B06-D0BD-4B49-99E4-4EBBE94A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5C4-1397-48B0-842B-4AF3FE5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27A-8530-427A-BCE6-5270DEA1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6A7-B497-4960-8FCF-C667318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FDD-01F6-4124-91AB-5CBD163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976-7BFE-4A1D-9D6C-18106DDD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555-A6C0-4F41-8EE9-E81D5ED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4BE-0BC6-436D-87D2-6F15CE1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AE5-999C-4713-8344-A15F460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0915-2256-48A6-914A-F55112B7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inventors.about.com/od/cstartinventions/a/comics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253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8120" y="1219320"/>
            <a:ext cx="411480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MIC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220968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162400"/>
            <a:ext cx="2819520" cy="169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48769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Rodolphe Töpffer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helm Bu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Töpffer - Self-portrait"/>
          <p:cNvPicPr/>
          <p:nvPr/>
        </p:nvPicPr>
        <p:blipFill>
          <a:blip r:embed="rId1"/>
          <a:stretch/>
        </p:blipFill>
        <p:spPr>
          <a:xfrm>
            <a:off x="0" y="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Wilhelm Busch self-portrait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962520"/>
            <a:ext cx="1981080" cy="2209680"/>
          </a:xfrm>
          <a:prstGeom prst="upArrow">
            <a:avLst>
              <a:gd name="adj1" fmla="val 50000"/>
              <a:gd name="adj2" fmla="val 27885"/>
            </a:avLst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495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olphe Töpff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4114800"/>
            <a:ext cx="22860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45720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helm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52280"/>
            <a:ext cx="2895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Com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2011,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http://inventors.about.com/od/cstartinventions/a/comic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C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The invention “Comics” was made by Rodolphe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pffer in 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1833 and inspired Americans to make the invention called the “Comic Strip”. The first comic in America was called “Yellow Kid” in 18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MAD Magazine” was invented in 1952 by William Ga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jamin Franklin also made co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Angelo Agostini also made comics but he lives in Braz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Kristen ITC"/>
              </a:rPr>
              <a:t>Benjamin Franklins comic strip was called “John or Di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dolphe Töpff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Rodolphe Töpffer was the son of a painter named Wolfgang Adam Töpffer in Geneva, Switz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Töpffer</a:t>
            </a:r>
            <a:r>
              <a:rPr b="1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ad an eye defect so didn’t get a artistic job unlike his father who did not have the def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Fortunately, Töpffer loved literature. He loved to write short stories like one of them that are named “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My Uncles Library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, “'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Nouvelles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Genevoises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 and “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Kristen ITC"/>
              </a:rPr>
              <a:t>Voyages en zig-zag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” about his adventures in Switz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studies in Paris, France to become a teacher, for schools in his hometown Geneva, Switzerland and struggling to become a titular professor in the Geneva Academy of Belles-Lett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In 1895, he discovered a school for only boy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was born January 3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Kristen ITC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1799 and died August 6</a:t>
            </a:r>
            <a:r>
              <a:rPr b="0" lang="en-US" sz="1400" spc="-1" strike="noStrike" baseline="30000">
                <a:solidFill>
                  <a:srgbClr val="ffffff"/>
                </a:solidFill>
                <a:latin typeface="Kristen ITC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18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He inspired Americans to make comic strips. And that’s how the invention Comics were inven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4Z</dcterms:created>
  <dc:creator>install</dc:creator>
  <dc:description/>
  <dc:language>en-US</dc:language>
  <cp:lastModifiedBy>install</cp:lastModifiedBy>
  <dcterms:modified xsi:type="dcterms:W3CDTF">2011-01-14T16:54:42Z</dcterms:modified>
  <cp:revision>13</cp:revision>
  <dc:subject/>
  <dc:title>Slide 1</dc:title>
</cp:coreProperties>
</file>